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media/image1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C092A-5D00-4EC3-89E5-46A578764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7B7D4-2C81-4F0D-858A-9DB242C34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BCAFF-4953-4E73-92DD-099FD1127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775B6-8F2D-4569-9D28-008145D7E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C1EA53-381B-4730-80B7-AF10E3CA9A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843A1-A266-45C1-B4EF-C0A631945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7F2B8-9D06-4FA5-BE71-265349601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361C7-014D-400B-BAC6-F56738E80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89AFE-FCD0-402C-AE72-327EFC095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19EE4-CA18-4DD3-9ED6-38F854325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9BB4A-7F56-48CB-9D94-34A241EBB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49040-3D41-4257-A5DC-51AF5E2BE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C4624-F813-46CD-B0FE-7DCBF8239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48906-C106-45FD-B248-66C1A3CF9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90BDD-D7DE-4558-BAD3-6CFA0ADF4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2E815-9189-438B-A397-3F91900C0E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13F60B-A88A-42C6-BA7E-58EA7E5B5C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FDFABB-6CB7-4855-A723-79671913AE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583588-1356-4EDF-A351-67B71CEE64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18F2C3-71D1-4DE3-858A-3A8670D8B2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7C6EEF-1934-45C2-A341-857F96DE2A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DF1E16-6FCA-4EC3-BE7A-06463AE9F9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45E02-49F7-4D6A-98B5-1BBF0822B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F38848-D28E-4F82-A9C0-B8EA65CB5B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874201-20E2-4293-8F0C-5C6AAEB966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B08086-606B-4422-B39B-564952C07C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EAD007-D16D-4B52-AF9F-C9745914C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05ED31-6FC5-41E9-BC60-41933FBAB6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F147F2-2458-4DA0-B86E-D84EF7887C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1827D6-784F-4316-9CD3-FBB457993B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F2E753-91E2-45B0-8B33-5A1A80F9F6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474509-5D67-4CA5-91E1-E8419C25DC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62ECE3-EC98-40C0-9FAB-0597D07DCB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9B252-C14C-4AC8-BC1F-C7E6AD26E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5E105E-1ADB-473B-B52A-AC7AA71C15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4540E9-048C-4270-A96D-75D5B8A73E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A651D5-0761-4CA4-BEB6-7611B2935D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CC4514-798A-42FD-B469-234F8A6FDA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E1D5CF-42F6-4CC1-BC00-D3727DCF5D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871DE4-DE76-404A-95BF-D8C6E35446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80EE5E-4254-4A48-B847-6152875F85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BE12D3-F014-4841-B182-F72DF4F063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92C90E-123B-4D26-B51E-0D8B7880E6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F9B2F7-9C94-4EE7-8DBE-D6F673CF26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BA399-9336-480C-9971-ABC5A4EEF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BAC407-C270-4D5D-ABB4-3E0154ED46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077681-17FB-4951-A269-22D29CA78A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76FEC7-50A9-4720-B027-AA4EFF0D37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22154B-1DCC-4BB4-B6F6-DB9A4BBC99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F15687-9F77-4A8E-BBE3-E43B841379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BFF65D-7AFB-49E7-8831-9BEEE2FCC8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81C81E-96E0-47D3-B016-F1893F7873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220857-5A14-4FD8-B2A8-CC5DE83A21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4A1B97-6DB4-49BE-BF6E-FD43B73D68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5A68D6-4AE7-4631-987D-BC0EE73431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A7926-94F9-4B92-87F2-7FD3306BE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CCBED1-88DE-476D-96C5-10640302FF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59E41A-C190-4D1C-9596-9A69B8A13D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66E2F2-DA57-4636-A328-79632A03DD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9DF11A-FC95-4955-9651-1D791336FC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612DA2-C361-4BE8-AB1B-9949EB9D6A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453ED0-E78C-4D6F-878D-617210B21B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E06A37-8BA9-4183-BA1D-D72A234481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E4C453-FAFF-4741-A88F-747F2DCCC0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D1DB63-F75F-4EE4-A026-72710506E3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C327BD-9F61-4631-817B-E5EB67C199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364AB-0AEF-40BF-95F8-78B41469E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25A7D2-BB6E-409F-81C7-3671EACF13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7459EB-5E02-4648-9FC8-E31023D996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0CC8F8-7A33-468E-B0A2-659EFF09A1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11FA4C-569F-40AE-98D8-EABDE032EF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F79B37-C3C0-4170-972C-4D96A98FB7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B2199B-4844-44BB-9403-E6CA11D6C6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5EA9B5-7C51-49FB-864B-390F758254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574B12-BCDF-4A13-BCF7-A0C9D99D41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FBE8B7-AE15-43D4-BAEE-C61C69EC3B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A2EE1A-EF97-402F-9AEC-D05C4C82A3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C0916-09E6-4298-AC50-BD8E17409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11B570-2328-4CE0-BB6D-85E797AE8C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92CEAF-3618-4835-A586-64AB8F6771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715ED3-B0BE-4F03-AEF4-6E9ACA3738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C71786-B529-4656-9BAD-9AE3BAEE02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4B54F7-8B89-418C-80BA-CDBCA1A951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C92338-A64D-411D-8CBE-36E2B0524A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579B87-FB90-4EB1-8B54-F08E98A826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1901F9-D573-4391-AA82-30990B0964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21271B-9CC7-4231-A086-26ABA6F176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8B1422-B809-4269-8FBD-7A0DC713E2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2CC0B-639C-49C4-81FD-F63CE523D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B23E92-5856-48DB-BD2A-A12907AA60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1E5F16-9CD4-4F24-AAD0-A1814152A6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DAAEEE-32F3-497C-BAAE-280E570CD9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BFBB55-77B4-47E4-958A-7149FC548D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ED0ADA-0113-44E6-BB83-6CFB4B0612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5B47E1-9519-46CF-8915-A681E3CBF7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E5B169-D4D8-4326-A46E-4447E7F3F02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B76476-9F69-428C-8A84-7E1941FB3653}"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EE0C8F-1222-48A1-B265-24135D31009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13800000"/>
          </a:gradFill>
          <a:ln w="0">
            <a:noFill/>
          </a:ln>
        </p:spPr>
        <p:style>
          <a:lnRef idx="0"/>
          <a:fillRef idx="0"/>
          <a:effectRef idx="0"/>
          <a:fontRef idx="minor"/>
        </p:style>
        <p:txBody>
          <a:bodyPr lIns="90000" rIns="90000"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reeform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54" name="Straight Connector 20" descr=""/>
            <p:cNvPicPr/>
            <p:nvPr/>
          </p:nvPicPr>
          <p:blipFill>
            <a:blip r:embed="rId3"/>
            <a:stretch/>
          </p:blipFill>
          <p:spPr>
            <a:xfrm>
              <a:off x="-3240" y="4986000"/>
              <a:ext cx="9147240" cy="80820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FDE745-6E34-4EAB-8A27-D07A8C538C77}"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1BF568-D010-4B3C-8814-B7DBF2F539D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47E9F5-F609-4E9D-8192-E69C53300495}"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A5A38-48F3-4678-8638-E2C09BBDFB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2F92E-7449-4A66-AACE-B5756125F086}"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209455-CE75-400C-B121-496FA02DDB5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9BA98-655F-4BB4-A4CB-EACCD8C86EE9}"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3BA05C-1924-4F25-BEAE-21EBD3DA832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5AE68C-D627-4BC7-BBAF-7ABB00AC8EB3}"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2832B4-5A8A-435B-B0EF-04189197A8A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5E5531-9DD2-4953-8772-36CDCE0EC074}"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C84B6D-4FE8-46AE-85F9-8DFF138DA64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7fc4dd"/>
              </a:gs>
              <a:gs pos="100000">
                <a:srgbClr val="1389a6"/>
              </a:gs>
            </a:gsLst>
            <a:lin ang="5400000"/>
          </a:gradFill>
          <a:ln cap="rnd" w="3240">
            <a:solidFill>
              <a:srgbClr val="1e768c"/>
            </a:solidFill>
            <a:miter/>
          </a:ln>
          <a:effectLst>
            <a:outerShdw dist="25560" dir="5400000" blurRad="0" rotWithShape="0">
              <a:srgbClr val="808080">
                <a:alpha val="46000"/>
              </a:srgbClr>
            </a:outerShdw>
          </a:effectLst>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F2543-A5D2-4954-9BF8-F2FC62CC1E32}"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85BDBC-5ABD-46D7-A1E3-6E3193724BA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682560" y="1749600"/>
            <a:ext cx="7778880" cy="206028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The process in which cells use oxygen to burn sugar for fuel.</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txBox="1"/>
          <p:nvPr/>
        </p:nvSpPr>
        <p:spPr>
          <a:xfrm>
            <a:off x="457200" y="1218960"/>
            <a:ext cx="8229600" cy="478764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the number of gas molecules and the temperature remain constant, then the pressure is inversely proportional to the volume.</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the temperature changes and the number of gas molecules is kept constant, then either the pressure or volume (or both) will change in direct proportion to the temperature.</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ases and fluids flow from regions of high pressure to regions of low pressure.</a:t>
            </a:r>
            <a:endParaRPr b="0" lang="en-US" sz="2700" spc="-1" strike="noStrike">
              <a:solidFill>
                <a:srgbClr val="000000"/>
              </a:solidFill>
              <a:latin typeface="Lucida Sans Unicode"/>
            </a:endParaRPr>
          </a:p>
        </p:txBody>
      </p:sp>
      <p:pic>
        <p:nvPicPr>
          <p:cNvPr id="389" name="Title 2" descr=""/>
          <p:cNvPicPr/>
          <p:nvPr/>
        </p:nvPicPr>
        <p:blipFill>
          <a:blip r:embed="rId1"/>
          <a:stretch/>
        </p:blipFill>
        <p:spPr>
          <a:xfrm>
            <a:off x="450720" y="-6480"/>
            <a:ext cx="8242560" cy="107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ok at the Equation agai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C</a:t>
            </a:r>
            <a:r>
              <a:rPr b="0" lang="en-US" sz="2000" spc="-1" strike="noStrike">
                <a:solidFill>
                  <a:srgbClr val="000000"/>
                </a:solidFill>
                <a:latin typeface="Lucida Sans Unicode"/>
              </a:rPr>
              <a:t>6</a:t>
            </a:r>
            <a:r>
              <a:rPr b="0" lang="en-US" sz="2700" spc="-1" strike="noStrike">
                <a:solidFill>
                  <a:srgbClr val="000000"/>
                </a:solidFill>
                <a:latin typeface="Lucida Sans Unicode"/>
              </a:rPr>
              <a:t>H</a:t>
            </a:r>
            <a:r>
              <a:rPr b="0" lang="en-US" sz="2000" spc="-1" strike="noStrike">
                <a:solidFill>
                  <a:srgbClr val="000000"/>
                </a:solidFill>
                <a:latin typeface="Lucida Sans Unicode"/>
              </a:rPr>
              <a:t>12</a:t>
            </a:r>
            <a:r>
              <a:rPr b="0" lang="en-US" sz="2700" spc="-1" strike="noStrike">
                <a:solidFill>
                  <a:srgbClr val="000000"/>
                </a:solidFill>
                <a:latin typeface="Lucida Sans Unicode"/>
              </a:rPr>
              <a:t>O</a:t>
            </a:r>
            <a:r>
              <a:rPr b="0" lang="en-US" sz="2000" spc="-1" strike="noStrike">
                <a:solidFill>
                  <a:srgbClr val="000000"/>
                </a:solidFill>
                <a:latin typeface="Lucida Sans Unicode"/>
              </a:rPr>
              <a:t>6</a:t>
            </a:r>
            <a:r>
              <a:rPr b="0" lang="en-US" sz="2700" spc="-1" strike="noStrike">
                <a:solidFill>
                  <a:srgbClr val="000000"/>
                </a:solidFill>
                <a:latin typeface="Lucida Sans Unicode"/>
              </a:rPr>
              <a:t>  +  </a:t>
            </a:r>
            <a:r>
              <a:rPr b="0" lang="en-US" sz="2700" spc="-1" strike="noStrike" u="sng">
                <a:solidFill>
                  <a:srgbClr val="000000"/>
                </a:solidFill>
                <a:uFillTx/>
                <a:latin typeface="Lucida Sans Unicode"/>
              </a:rPr>
              <a:t>6</a:t>
            </a:r>
            <a:r>
              <a:rPr b="0" lang="en-US" sz="2700" spc="-1" strike="noStrike">
                <a:solidFill>
                  <a:srgbClr val="000000"/>
                </a:solidFill>
                <a:latin typeface="Lucida Sans Unicode"/>
              </a:rPr>
              <a:t>O</a:t>
            </a:r>
            <a:r>
              <a:rPr b="0" lang="en-US" sz="2000" spc="-1" strike="noStrike">
                <a:solidFill>
                  <a:srgbClr val="000000"/>
                </a:solidFill>
                <a:latin typeface="Lucida Sans Unicode"/>
              </a:rPr>
              <a:t>2</a:t>
            </a:r>
            <a:r>
              <a:rPr b="0" lang="en-US" sz="2700" spc="-1" strike="noStrike">
                <a:solidFill>
                  <a:srgbClr val="000000"/>
                </a:solidFill>
                <a:latin typeface="Lucida Sans Unicode"/>
              </a:rPr>
              <a:t>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a:t>
            </a:r>
            <a:r>
              <a:rPr b="0" lang="en-US" sz="2700" spc="-1" strike="noStrike" u="sng">
                <a:solidFill>
                  <a:srgbClr val="000000"/>
                </a:solidFill>
                <a:uFillTx/>
                <a:latin typeface="Lucida Sans Unicode"/>
              </a:rPr>
              <a:t>6</a:t>
            </a:r>
            <a:r>
              <a:rPr b="0" lang="en-US" sz="2700" spc="-1" strike="noStrike">
                <a:solidFill>
                  <a:srgbClr val="000000"/>
                </a:solidFill>
                <a:latin typeface="Lucida Sans Unicode"/>
              </a:rPr>
              <a:t>CO</a:t>
            </a:r>
            <a:r>
              <a:rPr b="0" lang="en-US" sz="2000" spc="-1" strike="noStrike">
                <a:solidFill>
                  <a:srgbClr val="000000"/>
                </a:solidFill>
                <a:latin typeface="Lucida Sans Unicode"/>
              </a:rPr>
              <a:t>2</a:t>
            </a:r>
            <a:r>
              <a:rPr b="0" lang="en-US" sz="2700" spc="-1" strike="noStrike">
                <a:solidFill>
                  <a:srgbClr val="000000"/>
                </a:solidFill>
                <a:latin typeface="Lucida Sans Unicode"/>
              </a:rPr>
              <a:t> + 6H</a:t>
            </a:r>
            <a:r>
              <a:rPr b="0" lang="en-US" sz="2000" spc="-1" strike="noStrike">
                <a:solidFill>
                  <a:srgbClr val="000000"/>
                </a:solidFill>
                <a:latin typeface="Lucida Sans Unicode"/>
              </a:rPr>
              <a:t>2</a:t>
            </a:r>
            <a:r>
              <a:rPr b="0" lang="en-US" sz="2700" spc="-1" strike="noStrike">
                <a:solidFill>
                  <a:srgbClr val="000000"/>
                </a:solidFill>
                <a:latin typeface="Lucida Sans Unicode"/>
              </a:rPr>
              <a:t>O + 36ATP</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6 molecules of oxygen react and 6 molecules of carbon dioxide are produced – this is a problem, because we only want to measure amount of oxygen used by the peas</a:t>
            </a:r>
            <a:endParaRPr b="0" lang="en-US" sz="2700" spc="-1" strike="noStrike">
              <a:solidFill>
                <a:srgbClr val="000000"/>
              </a:solidFill>
              <a:latin typeface="Lucida Sans Unicode"/>
            </a:endParaRPr>
          </a:p>
        </p:txBody>
      </p:sp>
      <p:pic>
        <p:nvPicPr>
          <p:cNvPr id="39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 will use a chemical called potassium hydroxide (KOH) to convert carbon dioxide gas to a solid precipitate (K</a:t>
            </a:r>
            <a:r>
              <a:rPr b="0" lang="en-US" sz="2000" spc="-1" strike="noStrike">
                <a:solidFill>
                  <a:srgbClr val="000000"/>
                </a:solidFill>
                <a:latin typeface="Lucida Sans Unicode"/>
              </a:rPr>
              <a:t>2</a:t>
            </a:r>
            <a:r>
              <a:rPr b="0" lang="en-US" sz="2700" spc="-1" strike="noStrike">
                <a:solidFill>
                  <a:srgbClr val="000000"/>
                </a:solidFill>
                <a:latin typeface="Lucida Sans Unicode"/>
              </a:rPr>
              <a:t>CO</a:t>
            </a:r>
            <a:r>
              <a:rPr b="0" lang="en-US" sz="2000" spc="-1" strike="noStrike">
                <a:solidFill>
                  <a:srgbClr val="000000"/>
                </a:solidFill>
                <a:latin typeface="Lucida Sans Unicode"/>
              </a:rPr>
              <a:t>3</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This removes the gas produced &amp; ensures that we are only measuring oxygen consumed by the pe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Unicode"/>
              </a:rPr>
              <a:t>DANGER:  WEAR GOGGLES &amp; DO NOT GE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Lucida Sans Unicode"/>
              </a:rPr>
              <a:t>                   </a:t>
            </a:r>
            <a:r>
              <a:rPr b="0" lang="en-US" sz="2700" spc="-1" strike="noStrike">
                <a:solidFill>
                  <a:srgbClr val="ff0000"/>
                </a:solidFill>
                <a:latin typeface="Lucida Sans Unicode"/>
              </a:rPr>
              <a:t>KOH ON YOUR SKIN!</a:t>
            </a:r>
            <a:endParaRPr b="0" lang="en-US" sz="2700" spc="-1" strike="noStrike">
              <a:solidFill>
                <a:srgbClr val="000000"/>
              </a:solidFill>
              <a:latin typeface="Lucida Sans Unicode"/>
            </a:endParaRPr>
          </a:p>
        </p:txBody>
      </p:sp>
      <p:pic>
        <p:nvPicPr>
          <p:cNvPr id="39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otassium hydroxide (KOH), otherwise known as caustic potash, is used in making soaps, detergents, potassium carbonate and other potassium chemicals.</a:t>
            </a:r>
            <a:endParaRPr b="0" lang="en-US" sz="2700" spc="-1" strike="noStrike">
              <a:solidFill>
                <a:srgbClr val="000000"/>
              </a:solidFill>
              <a:latin typeface="Lucida Sans Unicode"/>
            </a:endParaRPr>
          </a:p>
        </p:txBody>
      </p:sp>
      <p:pic>
        <p:nvPicPr>
          <p:cNvPr id="39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pirometers 1 – 3 will be placed in room temperature wate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pirometers 4 – 6 will be placed in ice water</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ach lab group will be assigned to one temperature and will set up 3 respirometers</a:t>
            </a:r>
            <a:endParaRPr b="0" lang="en-US" sz="2700" spc="-1" strike="noStrike">
              <a:solidFill>
                <a:srgbClr val="000000"/>
              </a:solidFill>
              <a:latin typeface="Lucida Sans Unicode"/>
            </a:endParaRPr>
          </a:p>
        </p:txBody>
      </p:sp>
      <p:pic>
        <p:nvPicPr>
          <p:cNvPr id="397" name="Title 2" descr=""/>
          <p:cNvPicPr/>
          <p:nvPr/>
        </p:nvPicPr>
        <p:blipFill>
          <a:blip r:embed="rId1"/>
          <a:stretch/>
        </p:blipFill>
        <p:spPr>
          <a:xfrm>
            <a:off x="450720" y="249120"/>
            <a:ext cx="8242560" cy="136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eds are dormant stages of living organisms, and contain embryo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9"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pirometer 1 will contain germinating pea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pirometer 2 will contain dry peas + glass beads </a:t>
            </a:r>
            <a:r>
              <a:rPr b="0" lang="en-US" sz="2700" spc="-1" strike="noStrike">
                <a:solidFill>
                  <a:srgbClr val="0000ff"/>
                </a:solidFill>
                <a:latin typeface="Lucida Sans Unicode"/>
              </a:rPr>
              <a:t>(why add glass bead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spirometer 3 will contain glass beads onl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1" name="Title 2" descr=""/>
          <p:cNvPicPr/>
          <p:nvPr/>
        </p:nvPicPr>
        <p:blipFill>
          <a:blip r:embed="rId1"/>
          <a:stretch/>
        </p:blipFill>
        <p:spPr>
          <a:xfrm>
            <a:off x="450720" y="249120"/>
            <a:ext cx="8242560" cy="136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is necessary to keep the temperature within the respirometer stable so the enclosed gas does not expand or contract as in a thermometer.</a:t>
            </a:r>
            <a:endParaRPr b="0" lang="en-US" sz="2700" spc="-1" strike="noStrike">
              <a:solidFill>
                <a:srgbClr val="000000"/>
              </a:solidFill>
              <a:latin typeface="Lucida Sans Unicode"/>
            </a:endParaRPr>
          </a:p>
        </p:txBody>
      </p:sp>
      <p:pic>
        <p:nvPicPr>
          <p:cNvPr id="40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Hibernation is a form of adaptation where an animal’s respiration slows down to very low levels in response to cold temperatures.  Common hibernators include woodchucks, hedgehogs, and shrews.  Less commonly known are bats, whose respiration slows from eight breaths per second to eight breaths per minute during hibernati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457200" y="838080"/>
            <a:ext cx="8229600" cy="516888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1 – Read through entire procedure</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white portion of packet)</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2 – You will work with your fermentation lab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partners on this lab – try to answer the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blue pre-lab questions (1 – 10) with your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partner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 – Make corrections as needed when we go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over the pre-lab question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4 – Be prepared to set up the lab and collec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data on Wednesda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7" name="Title 2" descr=""/>
          <p:cNvPicPr/>
          <p:nvPr/>
        </p:nvPicPr>
        <p:blipFill>
          <a:blip r:embed="rId1"/>
          <a:stretch/>
        </p:blipFill>
        <p:spPr>
          <a:xfrm>
            <a:off x="450720" y="-6480"/>
            <a:ext cx="8242560" cy="96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word aerobic means “requiring air” but the only important component of air, as far as respiration is concerned, is the gas oxygen, which makes up approximately 20% of the total.</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 will measure the amount of oxygen taken in by dry peas and germinating peas during respiration at two different temperatures.</a:t>
            </a:r>
            <a:endParaRPr b="0" lang="en-US" sz="2700" spc="-1" strike="noStrike">
              <a:solidFill>
                <a:srgbClr val="000000"/>
              </a:solidFill>
              <a:latin typeface="Lucida Sans Unicode"/>
            </a:endParaRPr>
          </a:p>
        </p:txBody>
      </p:sp>
      <p:pic>
        <p:nvPicPr>
          <p:cNvPr id="37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respirometer is an apparatus for measuring the amounts of gases used during respiration.</a:t>
            </a:r>
            <a:endParaRPr b="0" lang="en-US" sz="2700" spc="-1" strike="noStrike">
              <a:solidFill>
                <a:srgbClr val="000000"/>
              </a:solidFill>
              <a:latin typeface="Lucida Sans Unicode"/>
            </a:endParaRPr>
          </a:p>
        </p:txBody>
      </p:sp>
      <p:pic>
        <p:nvPicPr>
          <p:cNvPr id="37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txBox="1"/>
          <p:nvPr/>
        </p:nvSpPr>
        <p:spPr>
          <a:xfrm>
            <a:off x="457200" y="1143000"/>
            <a:ext cx="8229600" cy="548640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cuss the gas laws as they apply to the function of a respirometer</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erpret data related to the effects of temperature on cell respiratio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terpret data related to the effects of germination or non-germination on cell respiratio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lain or determine the significance of a control</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lain the relationship between dependent &amp; independent variables</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lculate a rate of cell respiration by utilizing graphed data</a:t>
            </a:r>
            <a:endParaRPr b="0" lang="en-US" sz="2700" spc="-1" strike="noStrike">
              <a:solidFill>
                <a:srgbClr val="000000"/>
              </a:solidFill>
              <a:latin typeface="Lucida Sans Unicode"/>
            </a:endParaRPr>
          </a:p>
        </p:txBody>
      </p:sp>
      <p:pic>
        <p:nvPicPr>
          <p:cNvPr id="379" name="Title 2" descr=""/>
          <p:cNvPicPr/>
          <p:nvPr/>
        </p:nvPicPr>
        <p:blipFill>
          <a:blip r:embed="rId1"/>
          <a:stretch/>
        </p:blipFill>
        <p:spPr>
          <a:xfrm>
            <a:off x="225360" y="-6480"/>
            <a:ext cx="8925120" cy="115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a:t>
            </a:r>
            <a:r>
              <a:rPr b="0" lang="en-US" sz="2000" spc="-1" strike="noStrike">
                <a:solidFill>
                  <a:srgbClr val="000000"/>
                </a:solidFill>
                <a:latin typeface="Lucida Sans Unicode"/>
              </a:rPr>
              <a:t>6</a:t>
            </a:r>
            <a:r>
              <a:rPr b="0" lang="en-US" sz="2700" spc="-1" strike="noStrike">
                <a:solidFill>
                  <a:srgbClr val="000000"/>
                </a:solidFill>
                <a:latin typeface="Lucida Sans Unicode"/>
              </a:rPr>
              <a:t>H</a:t>
            </a:r>
            <a:r>
              <a:rPr b="0" lang="en-US" sz="2000" spc="-1" strike="noStrike">
                <a:solidFill>
                  <a:srgbClr val="000000"/>
                </a:solidFill>
                <a:latin typeface="Lucida Sans Unicode"/>
              </a:rPr>
              <a:t>12</a:t>
            </a:r>
            <a:r>
              <a:rPr b="0" lang="en-US" sz="2700" spc="-1" strike="noStrike">
                <a:solidFill>
                  <a:srgbClr val="000000"/>
                </a:solidFill>
                <a:latin typeface="Lucida Sans Unicode"/>
              </a:rPr>
              <a:t>O</a:t>
            </a:r>
            <a:r>
              <a:rPr b="0" lang="en-US" sz="2000" spc="-1" strike="noStrike">
                <a:solidFill>
                  <a:srgbClr val="000000"/>
                </a:solidFill>
                <a:latin typeface="Lucida Sans Unicode"/>
              </a:rPr>
              <a:t>6</a:t>
            </a:r>
            <a:r>
              <a:rPr b="0" lang="en-US" sz="2700" spc="-1" strike="noStrike">
                <a:solidFill>
                  <a:srgbClr val="000000"/>
                </a:solidFill>
                <a:latin typeface="Lucida Sans Unicode"/>
              </a:rPr>
              <a:t>  +  6O</a:t>
            </a:r>
            <a:r>
              <a:rPr b="0" lang="en-US" sz="2000" spc="-1" strike="noStrike">
                <a:solidFill>
                  <a:srgbClr val="000000"/>
                </a:solidFill>
                <a:latin typeface="Lucida Sans Unicode"/>
              </a:rPr>
              <a:t>2</a:t>
            </a:r>
            <a:r>
              <a:rPr b="0" lang="en-US" sz="2700" spc="-1" strike="noStrike">
                <a:solidFill>
                  <a:srgbClr val="000000"/>
                </a:solidFill>
                <a:latin typeface="Lucida Sans Unicode"/>
              </a:rPr>
              <a:t>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6CO</a:t>
            </a:r>
            <a:r>
              <a:rPr b="0" lang="en-US" sz="2000" spc="-1" strike="noStrike">
                <a:solidFill>
                  <a:srgbClr val="000000"/>
                </a:solidFill>
                <a:latin typeface="Lucida Sans Unicode"/>
              </a:rPr>
              <a:t>2</a:t>
            </a:r>
            <a:r>
              <a:rPr b="0" lang="en-US" sz="2700" spc="-1" strike="noStrike">
                <a:solidFill>
                  <a:srgbClr val="000000"/>
                </a:solidFill>
                <a:latin typeface="Lucida Sans Unicode"/>
              </a:rPr>
              <a:t> + 6H</a:t>
            </a:r>
            <a:r>
              <a:rPr b="0" lang="en-US" sz="2000" spc="-1" strike="noStrike">
                <a:solidFill>
                  <a:srgbClr val="000000"/>
                </a:solidFill>
                <a:latin typeface="Lucida Sans Unicode"/>
              </a:rPr>
              <a:t>2</a:t>
            </a:r>
            <a:r>
              <a:rPr b="0" lang="en-US" sz="2700" spc="-1" strike="noStrike">
                <a:solidFill>
                  <a:srgbClr val="000000"/>
                </a:solidFill>
                <a:latin typeface="Lucida Sans Unicode"/>
              </a:rPr>
              <a:t>O + 36ATP</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lucose + Oxygen </a:t>
            </a:r>
            <a:r>
              <a:rPr b="0" lang="en-US" sz="2700" spc="-1" strike="noStrike">
                <a:solidFill>
                  <a:srgbClr val="000000"/>
                </a:solidFill>
                <a:latin typeface="Wingdings"/>
                <a:ea typeface="Wingdings"/>
              </a:rPr>
              <a:t></a:t>
            </a:r>
            <a:r>
              <a:rPr b="0" lang="en-US" sz="2700" spc="-1" strike="noStrike">
                <a:solidFill>
                  <a:srgbClr val="000000"/>
                </a:solidFill>
                <a:latin typeface="Lucida Sans Unicode"/>
              </a:rPr>
              <a:t>  Carbon Dioxide + Water + Energy (ATP)</a:t>
            </a:r>
            <a:endParaRPr b="0" lang="en-US" sz="2700" spc="-1" strike="noStrike">
              <a:solidFill>
                <a:srgbClr val="000000"/>
              </a:solidFill>
              <a:latin typeface="Lucida Sans Unicode"/>
            </a:endParaRPr>
          </a:p>
        </p:txBody>
      </p:sp>
      <p:pic>
        <p:nvPicPr>
          <p:cNvPr id="381"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fruit-ripening process may be greatly slowed down by using cold storage methods (refrigeration), which reduces the respiration rate of fruit.</a:t>
            </a:r>
            <a:endParaRPr b="0" lang="en-US" sz="2700" spc="-1" strike="noStrike">
              <a:solidFill>
                <a:srgbClr val="000000"/>
              </a:solidFill>
              <a:latin typeface="Lucida Sans Unicode"/>
            </a:endParaRPr>
          </a:p>
        </p:txBody>
      </p:sp>
      <p:pic>
        <p:nvPicPr>
          <p:cNvPr id="383"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 is the pressure of the g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 is the volume of the g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 is the number of molecules of g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 is the gas constant (fixed valu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 is the temperature of the g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gas law is important to the understanding of how the respirometer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works</a:t>
            </a:r>
            <a:endParaRPr b="0" lang="en-US" sz="2700" spc="-1" strike="noStrike">
              <a:solidFill>
                <a:srgbClr val="000000"/>
              </a:solidFill>
              <a:latin typeface="Lucida Sans Unicode"/>
            </a:endParaRPr>
          </a:p>
        </p:txBody>
      </p:sp>
      <p:pic>
        <p:nvPicPr>
          <p:cNvPr id="385"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temperature and pressure are kept constant, then the volume of the gas is directly proportional to the number of molecules of the ga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the temperature and volume remain constant, then the pressure of the gas changes in direct proportion to the number of molecules of gas present.</a:t>
            </a:r>
            <a:endParaRPr b="0" lang="en-US" sz="2700" spc="-1" strike="noStrike">
              <a:solidFill>
                <a:srgbClr val="000000"/>
              </a:solidFill>
              <a:latin typeface="Lucida Sans Unicode"/>
            </a:endParaRPr>
          </a:p>
        </p:txBody>
      </p:sp>
      <p:pic>
        <p:nvPicPr>
          <p:cNvPr id="387"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3T22:05:58Z</dcterms:created>
  <dc:creator>Keith or Sherri Holmgren</dc:creator>
  <dc:description/>
  <dc:language>en-US</dc:language>
  <cp:lastModifiedBy>Keith or Sherri Holmgren</cp:lastModifiedBy>
  <dcterms:modified xsi:type="dcterms:W3CDTF">2011-11-13T23:49:53Z</dcterms:modified>
  <cp:revision>8</cp:revision>
  <dc:subject/>
  <dc:title>Cellular Respiration:</dc:title>
</cp:coreProperties>
</file>